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751C-F84F-4569-ACB8-E5CC23A092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7889-53BA-40B8-97CE-BE6727F273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A4F-865F-4E8D-A047-CFA19953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DC2-51B4-4362-A9AB-700106E0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387-891F-4369-B774-7450A0FE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1C1-FCB5-4B9E-9C25-93AB7735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35FF-23B0-46A0-94B5-7F9EE100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F166-7DE2-48B7-AD53-60B5A5F8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594-E4ED-47F3-830A-F937B304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9632-E413-484A-B8A7-4CD59D30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C50A-7CB4-46B9-B2E7-B8E9046B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7316-CB2C-4E17-BCFE-B480195F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9671-209F-4861-B3C5-8AF1070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B61-99B7-4431-9CE3-25F6B449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8856-0761-4BBD-A11A-B8D41C5A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103D-6482-4AFC-A544-2E43AFFC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44A2-33F7-4005-AE48-C503B14B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67AD-6779-42BE-8AD3-C9F28ADC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E0BD-ABE9-40FA-B86F-B0D848D8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91A-6E50-4576-B45B-E84A3EF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F1F-6414-4274-BFD1-2FAEA605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C1D-2A63-41AA-849A-CD6937A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C29-2FE1-4EB6-A878-32E3EEF9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4B3-027D-4169-99E0-0060D19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618-BC0B-43DE-8873-849BC45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857-8575-4C6F-8505-B1437A92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1DC0-2EE3-41F8-855A-952FC6481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6EE-893E-4BF5-80FC-6F1C0698D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n appét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ux petits comme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016080" cy="332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3087720" y="0"/>
            <a:ext cx="3016080" cy="3290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6211800" y="0"/>
            <a:ext cx="3016440" cy="3290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15840" y="3659040"/>
            <a:ext cx="3108240" cy="319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5"/>
          <a:stretch/>
        </p:blipFill>
        <p:spPr>
          <a:xfrm>
            <a:off x="2971800" y="3657600"/>
            <a:ext cx="3108240" cy="319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6"/>
          <a:stretch/>
        </p:blipFill>
        <p:spPr>
          <a:xfrm>
            <a:off x="6019920" y="3659040"/>
            <a:ext cx="3108240" cy="3198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228600" y="380880"/>
            <a:ext cx="38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276720" y="457200"/>
            <a:ext cx="38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400800" y="457200"/>
            <a:ext cx="38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52280" y="4191120"/>
            <a:ext cx="381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3124080" y="4267080"/>
            <a:ext cx="381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6172200" y="4191120"/>
            <a:ext cx="38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12-05T16:04:18Z</dcterms:modified>
  <cp:revision>94</cp:revision>
  <dc:subject/>
  <dc:title>Allez, viens! – Level 2</dc:title>
</cp:coreProperties>
</file>